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6075C-7953-4F79-9F70-BC71360085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96D35-996D-448E-A4CB-B253EF4DEB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85263-D8D8-453D-AE90-7CE78F6A46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FDB34-B4D8-4367-B625-758C721B9E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A9CF5-E5F8-4D81-8050-12EA945CBE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A5AA-2CE1-430F-BDFB-C551A1E2C9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635F-C7A0-45DE-98E3-57BB582035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1BE3-4E7D-4646-951D-5C2B9A56D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EF33-6CDE-47D2-BF98-47B57B2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87FA-BBD4-40B4-8CC3-035D397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AC1B-7446-405E-A055-648D24349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C109-6107-41BC-9BD9-7EFC05E6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7FAA-BA88-47BC-A85F-4D256BC8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89D0-32E6-4FD2-983F-E22BA240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9DCA-7BA6-47ED-86E6-4BF14164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B0F1-2306-46CF-80AF-A550627B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5086-128D-45C5-A6A9-2387BF1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E7E4-2058-4D38-9D38-9B2C5CC1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F1AA-1D2D-47C9-9755-42C418A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E4D99C-C972-4BB6-ABB3-09049E52264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CTIVIDAD SÍSMIC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sísmica 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71640" y="119700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zonas del mundo con mayor actividad sísmica son aquellas que se sitúan cercanas a los bordes de las placas litosféricas, como se puede observar en el ma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 sís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1476360" y="2325600"/>
            <a:ext cx="626436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3024360" y="2160720"/>
            <a:ext cx="6119640" cy="4319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sísmica y bordes de pl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33480" y="127476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tividad sísmica en España se sitúa sobre todo al sur peninsular. Esto se debe a que en esta zona las placas euroasiática y africana entran en conta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 sísmica en Españ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00000" y="24210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hay algo de actividad sísmica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reste del país debido al choque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ubplaca ibérica con Eur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CuadroTexto"/>
          <p:cNvSpPr/>
          <p:nvPr/>
        </p:nvSpPr>
        <p:spPr>
          <a:xfrm>
            <a:off x="6516720" y="443700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recuencia e intensidad de la actividad sís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CuadroTexto"/>
          <p:cNvSpPr/>
          <p:nvPr/>
        </p:nvSpPr>
        <p:spPr>
          <a:xfrm>
            <a:off x="6732720" y="5732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2 CuadroTexto"/>
          <p:cNvSpPr/>
          <p:nvPr/>
        </p:nvSpPr>
        <p:spPr>
          <a:xfrm>
            <a:off x="7667640" y="573264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08:38:34Z</dcterms:modified>
  <cp:revision>45</cp:revision>
  <dc:subject/>
  <dc:title>Diapositiva 1</dc:title>
</cp:coreProperties>
</file>